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608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mputer System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90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TE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chnology and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1240" y="418680"/>
            <a:ext cx="860904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What are the computer system parts of a game system? </a:t>
            </a:r>
            <a:br>
              <a:rPr sz="3600"/>
            </a:b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(Wii, Play Station, X-Box, etc.)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2860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59436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33760" y="4537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8160" y="4572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64120" y="53514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21080" y="250524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81400" y="4392720"/>
            <a:ext cx="2433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30400" y="439272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0280" y="437508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40160" y="621036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at are other computer systems we use daily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at five different computer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mputer Systems and Softwa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re each of the following computer systems and controlled by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b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ting &amp; air conditi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ce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mputer System Par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cessor – Also known as the 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ry – Where active programs and data are temporially store and manip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put – Devices used to get data in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put – Devices used to display or send finished information from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age – Device where data, programs, and information are stored to be used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mputer System Diagram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2860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59436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33760" y="4537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8160" y="4572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64120" y="53514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21080" y="250524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9960" y="4392720"/>
            <a:ext cx="2433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28600" y="439272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0280" y="437508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0160" y="620856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at does software &amp; programs fit in the system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22860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59436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33760" y="4537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8160" y="4572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4120" y="53514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21080" y="250524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1400" y="4392720"/>
            <a:ext cx="2433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30400" y="439272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0280" y="437508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0160" y="621036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oftware &amp; Program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cessor will load software from storage into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gram will then request data from the input device or 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ata is processed in the proces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cessed information is then output to the display or it can be stored in storage for later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some examples of software for a compu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at computer parts make the system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2860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9436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33760" y="4537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88160" y="4572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64120" y="53514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21080" y="250524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81400" y="4392720"/>
            <a:ext cx="2433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30400" y="439272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0280" y="437508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0160" y="621036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How is a cell phone a computer system? What are its parts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22860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59436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33760" y="4537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8160" y="4572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4120" y="53514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21080" y="250524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81400" y="4392720"/>
            <a:ext cx="2433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0400" y="439272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0280" y="437508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40160" y="621036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How is a new car a computer system? What are the components?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2860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9436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33760" y="4537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8160" y="4572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64120" y="53514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21080" y="250524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81400" y="4392720"/>
            <a:ext cx="2433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30400" y="439272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0280" y="437508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0160" y="621036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How is an iPod a computer system? What are the different parts?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2860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15200" y="41148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5943600"/>
            <a:ext cx="2514600" cy="1143000"/>
          </a:xfrm>
          <a:prstGeom prst="roundRect">
            <a:avLst>
              <a:gd name="adj" fmla="val 13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3760" y="4537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8160" y="4572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64120" y="53514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21080" y="250524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351792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81400" y="4392720"/>
            <a:ext cx="2433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30400" y="439272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0280" y="4375080"/>
            <a:ext cx="2028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0160" y="6210360"/>
            <a:ext cx="20289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